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522732"/>
        <c:axId val="77953138"/>
      </c:barChart>
      <c:catAx>
        <c:axId val="165227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53138"/>
        <c:crosses val="autoZero"/>
        <c:auto val="1"/>
        <c:lblAlgn val="ctr"/>
        <c:lblOffset val="100"/>
        <c:noMultiLvlLbl val="0"/>
      </c:catAx>
      <c:valAx>
        <c:axId val="779531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227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0C5B-F827-4124-BEA6-F7157FF0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797-FF80-4472-BC61-EAB72F8A0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1466-3562-4633-9D71-3B80A0CF9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0F5B-9E43-4772-AD6D-C76F6F31A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359B9-E2C3-40B1-BB89-6514069E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61BA3-30D6-465F-9E91-7771B0668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4DC2-1071-4BD4-9FB0-0F539F51C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CD98-4304-4C1E-A6EB-388DE4E94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7BD7-DADA-4AEA-9F56-E52E9C2A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227E7-F2B4-4E59-BB5A-2251BF8E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0E91D-B84C-49CF-92AB-877351CFC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359-B606-471F-A59E-08BD8B70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F825A74-5B50-4718-8C97-6D71D5F26AD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