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51191"/>
        <c:axId val="22873727"/>
      </c:barChart>
      <c:catAx>
        <c:axId val="82351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73727"/>
        <c:crosses val="autoZero"/>
        <c:auto val="1"/>
        <c:lblAlgn val="ctr"/>
        <c:lblOffset val="100"/>
        <c:noMultiLvlLbl val="0"/>
      </c:catAx>
      <c:valAx>
        <c:axId val="22873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51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78F-5BC4-4567-9C0D-C801625C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C34-A03A-4D81-BF98-F6CA862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604-E4DF-4271-8136-6580E5D8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830-C6B9-45CC-9F35-B48A182B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45F-C0A7-4C35-B6DC-F816F864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DCB-7B6A-41B4-9750-F5C368B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BAB-8DD2-4C38-9790-81B65D9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797-FEF8-4FD8-988C-4E62B766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A4E-7DF6-447E-AB3B-AC53538D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D6F-82D4-4A6B-9309-B60B683E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32A-7F63-48E3-A9AB-F350595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B45-DE78-4538-A4CB-155EA46A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C2F91-882B-43D8-902A-84B88939F9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